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E5-8784-4811-A265-DBE8088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C6D-9BC7-4F4E-9D91-9B4B67F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63A-9AD8-4003-91EC-5FBC1BBE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6D4-B754-489A-BF55-EB6BD1F4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2CD8-FA71-4FAA-8B4E-4BF5C3E6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BDE7-F39A-4D94-A0F7-B449F4B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502C-C163-48DA-8BE4-0658E776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DE6C-1181-4292-8AD1-50CF4F7F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1443-CF4B-4839-B1D9-EC343FA4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D3B6-2EFB-4CE8-BF5F-1D3D2920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5916-8060-4B67-9FD8-EBC01BD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9F9-6959-44FA-811D-E1F606FE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101-88CB-459A-86D4-1EC5EA6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261-3111-456B-8A85-3DA4ADE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A62-5D08-455B-84F1-9B4867C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D1E-910C-43F0-9267-D48C305C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CF8-AFE7-4FCA-A248-342DDF3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928-A900-4006-8108-13E0896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DE0-04EC-457B-9D9D-CC49DEE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BE3-DA76-486F-B250-E19EE6C0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637-9842-4231-830E-45860AA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BFA-81B4-4E7B-99D6-4A67923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E0F-2831-4EF2-A618-7F59BDD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76E-239F-4EE4-B545-05A7F02F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32B10-3415-4959-9D83-FCB3B8A586AE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8F2CD-3C82-4CFA-94FB-1504D1A83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71DF1-7981-460C-9D03-E49CE4CBA79C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Organizzazione e gestione delle risorse umane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3 De Agostini Scuola S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94E97-B131-4F64-B8D9-D7A448C5E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07960" y="2184480"/>
            <a:ext cx="8128080" cy="2489040"/>
          </a:xfrm>
          <a:prstGeom prst="rect">
            <a:avLst/>
          </a:prstGeom>
          <a:ln w="0">
            <a:noFill/>
          </a:ln>
        </p:spPr>
      </p:pic>
      <p:sp>
        <p:nvSpPr>
          <p:cNvPr id="83" name="CasellaDiTesto 1"/>
          <p:cNvSpPr/>
          <p:nvPr/>
        </p:nvSpPr>
        <p:spPr>
          <a:xfrm>
            <a:off x="909720" y="98280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953735"/>
                </a:solidFill>
                <a:latin typeface="Calibri"/>
              </a:rPr>
              <a:t>Cosa non fare durante un colloquio di feedba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sellaDiTesto 2"/>
          <p:cNvSpPr/>
          <p:nvPr/>
        </p:nvSpPr>
        <p:spPr>
          <a:xfrm>
            <a:off x="5641200" y="54291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onte: http://www.dilber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438200" y="0"/>
            <a:ext cx="6823080" cy="423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Gabriele Gabrielli, Silvia Profili,  </a:t>
            </a:r>
            <a:r>
              <a:rPr b="0" i="1" lang="it-IT" sz="1400" spc="-1" strike="noStrike">
                <a:solidFill>
                  <a:srgbClr val="ffffff"/>
                </a:solidFill>
                <a:latin typeface="Calibri"/>
              </a:rPr>
              <a:t>Organizzazione e gestione delle risorse um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8261280" y="0"/>
            <a:ext cx="870120" cy="12873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69840" y="77760"/>
            <a:ext cx="124452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Segnaposto piè di pagina 8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, II ed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5:38:21Z</dcterms:created>
  <dc:creator>aa aa</dc:creator>
  <dc:description/>
  <dc:language>en-US</dc:language>
  <cp:lastModifiedBy>Anna Altieri</cp:lastModifiedBy>
  <dcterms:modified xsi:type="dcterms:W3CDTF">2016-11-03T15:46:14Z</dcterms:modified>
  <cp:revision>8</cp:revision>
  <dc:subject/>
  <dc:title>PowerPoint Presentation</dc:title>
</cp:coreProperties>
</file>